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351-4C4E-4D0E-A824-512E21A5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00A-FAA8-409C-91E7-4F81A03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13F-E5B2-40D3-9295-8D827C4B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314-6F6E-4470-B5FF-D9D9D113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A401-D9F1-403E-93BC-63D9FA96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AB8B-4E85-4CE1-BF96-3C8C38A7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33B-0E15-46D7-A46C-8E2974D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6552-D7A7-4174-913D-67549F66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4C4D-6241-4CCD-94C0-8F8C72A6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FF2E-D684-4C26-8D9B-093D98A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BEE-FF62-4E0B-A809-D8EC6E56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32F-7EF7-4BC2-B984-BAB8DED9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BCBC-29D8-47A4-A2F1-4D5F1FB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B88D-BB8B-4D5B-A436-C01AE2DD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79BF-4FAC-44DD-93BC-4D971C3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9ECD-733E-46DB-BEA0-5692AD2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B8E-6696-4342-8B20-B038BD9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64A-E963-4AA5-8EF9-43B1C6F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EB6-0E7C-4F9F-931B-BEF77E4D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4CB-BEA8-4593-BD83-9F8DC59E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812-C69D-4BF2-8A0B-DF3572E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630-B7C8-45BC-B2D4-DB5E823E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6B0-9580-401B-B0A5-4FB82E32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1F8-F0DF-47F7-A564-0EB7CCB9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A330-C46F-44DD-AF77-1605FE5407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D230-42E1-4DA3-927E-8E490851BB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am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40000" y="836640"/>
            <a:ext cx="46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OTIMPU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ima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63640" y="170028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323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am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348000" y="1700280"/>
            <a:ext cx="3314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ar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9054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8:59:47Z</dcterms:created>
  <dc:creator>AS</dc:creator>
  <dc:description/>
  <dc:language>en-US</dc:language>
  <cp:lastModifiedBy>AS</cp:lastModifiedBy>
  <dcterms:modified xsi:type="dcterms:W3CDTF">2010-01-05T19:39:58Z</dcterms:modified>
  <cp:revision>5</cp:revision>
  <dc:subject/>
  <dc:title>Diapozitivul 1</dc:title>
</cp:coreProperties>
</file>